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E51A-015D-49CB-BAFA-C416C15B4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4C18-ED38-4DC5-BAEC-C099359ED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826C-2B28-4E23-9340-A22887B78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9F54-D2F7-4747-A1CA-79CDE6A36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F601-37EB-4EF6-8867-F0A5846E1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57B3-221F-4D19-AD0E-24F84909E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3BE6-CDB8-4AAF-9C5F-210CEEFCE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B2B3-126B-482A-B9CB-0F9C0AC6F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BBC3-F917-4A0D-83D0-8F688F8CB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1A54-49D0-416B-9308-4AB2987E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B6E4-6356-4631-B011-9A1991F51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A018-3016-4D7F-A2ED-995AAF50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2A360-4596-438F-82C0-06579292B4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images.google.es/imgres?imgurl=http://www.daymontsl.com/images/joyeria.gif&amp;imgrefurl=http://www.daymontsl.com/joyeria.htm&amp;h=233&amp;w=267&amp;sz=11&amp;tbnid=j_59orUZ8Um1DM:&amp;tbnh=94&amp;tbnw=108&amp;hl=es&amp;start=1&amp;prev=/images%3Fq%3Djoyeria%26svnum%3D10%26hl%3Des%26lr%3D%26sa%3DN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640080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557360"/>
            <a:ext cx="849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) to learn 11 sh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) to translate a description of what the shops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) To play Who Wants to be a Million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B366-CAD3-49FF-BBE8-981FEC8690AD}" type="slidenum">
              <a:t>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6048360" cy="3745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68360" y="4508640"/>
            <a:ext cx="8207280" cy="125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3200" spc="-1" strike="noStrike">
                <a:solidFill>
                  <a:srgbClr val="000000"/>
                </a:solidFill>
                <a:latin typeface="Arial"/>
              </a:rPr>
              <a:t>Tienda: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 tienda de rega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3200" spc="-1" strike="noStrike">
                <a:solidFill>
                  <a:srgbClr val="000000"/>
                </a:solidFill>
                <a:latin typeface="Arial"/>
                <a:ea typeface="Arial"/>
              </a:rPr>
              <a:t>Se vende: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  <a:ea typeface="Arial"/>
              </a:rPr>
              <a:t> caramelos, llaveros, ositos de pelu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B2B0-8582-4AA0-863B-0342FF04A16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26920" y="260280"/>
            <a:ext cx="6867720" cy="37450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68360" y="4508640"/>
            <a:ext cx="8207280" cy="125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3200" spc="-1" strike="noStrike">
                <a:solidFill>
                  <a:srgbClr val="000000"/>
                </a:solidFill>
                <a:latin typeface="Arial"/>
              </a:rPr>
              <a:t>Tienda: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 librer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  <a:ea typeface="Arial"/>
              </a:rPr>
              <a:t>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3200" spc="-1" strike="noStrike">
                <a:solidFill>
                  <a:srgbClr val="000000"/>
                </a:solidFill>
                <a:latin typeface="Arial"/>
                <a:ea typeface="Arial"/>
              </a:rPr>
              <a:t>Se vende: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  <a:ea typeface="Arial"/>
              </a:rPr>
              <a:t> ibros, diccionarios, guías túris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0ED6-3521-4BD9-BF4E-E93E28CACF5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26920" y="260280"/>
            <a:ext cx="7058160" cy="3456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68360" y="4508640"/>
            <a:ext cx="8207280" cy="125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Tienda: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grandes almace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Se vende: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ropa, electrónicos, com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DACC-9E6B-4189-B7B0-44C396F1308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79280" y="476280"/>
            <a:ext cx="8713800" cy="189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una fruter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  <a:ea typeface="Arial"/>
              </a:rPr>
              <a:t>ía        una panadería       una librería    una florerí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  <a:ea typeface="Arial"/>
              </a:rPr>
              <a:t>un grand almacén      una joyería     una tienda de regal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  <a:ea typeface="Arial"/>
              </a:rPr>
              <a:t>un supermercado   una carnicería    una pescadería   un estanc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258920" y="2997360"/>
          <a:ext cx="6552720" cy="3127320"/>
        </p:xfrm>
        <a:graphic>
          <a:graphicData uri="http://schemas.openxmlformats.org/drawingml/2006/table">
            <a:tbl>
              <a:tblPr/>
              <a:tblGrid>
                <a:gridCol w="2184480"/>
                <a:gridCol w="2183760"/>
                <a:gridCol w="2184480"/>
              </a:tblGrid>
              <a:tr h="109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i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da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al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da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 person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da1"/>
                    </a:solidFill>
                  </a:tcPr>
                </a:tc>
              </a:tr>
              <a:tr h="203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a fruter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ía – a grocer’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0fda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a florer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ía – a flori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0fda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 estanco-  tobacconi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0fda1"/>
                    </a:solidFill>
                  </a:tcPr>
                </a:tc>
              </a:tr>
            </a:tbl>
          </a:graphicData>
        </a:graphic>
      </p:graphicFrame>
      <p:sp>
        <p:nvSpPr>
          <p:cNvPr id="70" name=""/>
          <p:cNvSpPr/>
          <p:nvPr/>
        </p:nvSpPr>
        <p:spPr>
          <a:xfrm>
            <a:off x="2484360" y="2349360"/>
            <a:ext cx="42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Las tiendas- the sh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24AC-C923-41F2-A16F-2D1355F6694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71640" y="333360"/>
            <a:ext cx="7416720" cy="4103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68360" y="4508640"/>
            <a:ext cx="8207280" cy="125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3200" spc="-1" strike="noStrike">
                <a:solidFill>
                  <a:srgbClr val="000000"/>
                </a:solidFill>
                <a:latin typeface="Arial"/>
              </a:rPr>
              <a:t>Tienda: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 fruter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  <a:ea typeface="Arial"/>
              </a:rPr>
              <a:t>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3200" spc="-1" strike="noStrike">
                <a:solidFill>
                  <a:srgbClr val="000000"/>
                </a:solidFill>
                <a:latin typeface="Arial"/>
                <a:ea typeface="Arial"/>
              </a:rPr>
              <a:t>Se vende: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  <a:ea typeface="Arial"/>
              </a:rPr>
              <a:t> manzanas, naranjas, u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277C-54AF-48D0-B6D0-A1849593FEF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334120" cy="40006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564000" y="907920"/>
            <a:ext cx="5333760" cy="3168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68360" y="4508640"/>
            <a:ext cx="8207280" cy="125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3200" spc="-1" strike="noStrike">
                <a:solidFill>
                  <a:srgbClr val="000000"/>
                </a:solidFill>
                <a:latin typeface="Arial"/>
              </a:rPr>
              <a:t>Tienda: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 carnicer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  <a:ea typeface="Arial"/>
              </a:rPr>
              <a:t>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3200" spc="-1" strike="noStrike">
                <a:solidFill>
                  <a:srgbClr val="000000"/>
                </a:solidFill>
                <a:latin typeface="Arial"/>
                <a:ea typeface="Arial"/>
              </a:rPr>
              <a:t>Se vende: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  <a:ea typeface="Arial"/>
              </a:rPr>
              <a:t> hamburguesas, salchichas, bist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7115-0132-4AC6-99EB-605E1F049BD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0" y="189000"/>
            <a:ext cx="4181400" cy="3456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4572000" cy="3456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68360" y="4508640"/>
            <a:ext cx="8207280" cy="125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3200" spc="-1" strike="noStrike">
                <a:solidFill>
                  <a:srgbClr val="000000"/>
                </a:solidFill>
                <a:latin typeface="Arial"/>
              </a:rPr>
              <a:t>Tienda: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 panader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  <a:ea typeface="Arial"/>
              </a:rPr>
              <a:t>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3200" spc="-1" strike="noStrike">
                <a:solidFill>
                  <a:srgbClr val="000000"/>
                </a:solidFill>
                <a:latin typeface="Arial"/>
                <a:ea typeface="Arial"/>
              </a:rPr>
              <a:t>Se vende: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  <a:ea typeface="Arial"/>
              </a:rPr>
              <a:t> 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B2D9-B38F-4396-AD75-790D735CF98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7343640" cy="40006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68360" y="4508640"/>
            <a:ext cx="8207280" cy="125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3200" spc="-1" strike="noStrike">
                <a:solidFill>
                  <a:srgbClr val="000000"/>
                </a:solidFill>
                <a:latin typeface="Arial"/>
              </a:rPr>
              <a:t>Tienda: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 pescader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  <a:ea typeface="Arial"/>
              </a:rPr>
              <a:t>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3200" spc="-1" strike="noStrike">
                <a:solidFill>
                  <a:srgbClr val="000000"/>
                </a:solidFill>
                <a:latin typeface="Arial"/>
                <a:ea typeface="Arial"/>
              </a:rPr>
              <a:t>Se vende: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  <a:ea typeface="Arial"/>
              </a:rPr>
              <a:t> pescado, maris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ADEE-F4DA-4937-96BE-D9560B2A077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26920" y="0"/>
            <a:ext cx="6266160" cy="3573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68360" y="4508640"/>
            <a:ext cx="8207280" cy="125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3200" spc="-1" strike="noStrike">
                <a:solidFill>
                  <a:srgbClr val="000000"/>
                </a:solidFill>
                <a:latin typeface="Arial"/>
              </a:rPr>
              <a:t>Tienda: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 florer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  <a:ea typeface="Arial"/>
              </a:rPr>
              <a:t>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3200" spc="-1" strike="noStrike">
                <a:solidFill>
                  <a:srgbClr val="000000"/>
                </a:solidFill>
                <a:latin typeface="Arial"/>
                <a:ea typeface="Arial"/>
              </a:rPr>
              <a:t>Se vende: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  <a:ea typeface="Arial"/>
              </a:rPr>
              <a:t> fl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7EB4-E4BF-475F-87F5-76A2A5D1F42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340000" y="404640"/>
            <a:ext cx="5761080" cy="32385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404640"/>
            <a:ext cx="1655640" cy="244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68360" y="4508640"/>
            <a:ext cx="8207280" cy="125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3200" spc="-1" strike="noStrike">
                <a:solidFill>
                  <a:srgbClr val="000000"/>
                </a:solidFill>
                <a:latin typeface="Arial"/>
              </a:rPr>
              <a:t>Tienda: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 joyer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  <a:ea typeface="Arial"/>
              </a:rPr>
              <a:t>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3200" spc="-1" strike="noStrike">
                <a:solidFill>
                  <a:srgbClr val="000000"/>
                </a:solidFill>
                <a:latin typeface="Arial"/>
                <a:ea typeface="Arial"/>
              </a:rPr>
              <a:t>Se vende: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  <a:ea typeface="Arial"/>
              </a:rPr>
              <a:t> collares, pendientes, anil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302A-B9B1-40AB-B37E-49638E2AB0A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00000" y="189000"/>
            <a:ext cx="6096240" cy="3600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68360" y="4508640"/>
            <a:ext cx="8207280" cy="125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3200" spc="-1" strike="noStrike">
                <a:solidFill>
                  <a:srgbClr val="000000"/>
                </a:solidFill>
                <a:latin typeface="Arial"/>
              </a:rPr>
              <a:t>Tienda: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 estan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3200" spc="-1" strike="noStrike">
                <a:solidFill>
                  <a:srgbClr val="000000"/>
                </a:solidFill>
                <a:latin typeface="Arial"/>
                <a:ea typeface="Arial"/>
              </a:rPr>
              <a:t>Se vende: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  <a:ea typeface="Arial"/>
              </a:rPr>
              <a:t> cigarillos, tobac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CAAA-BE3B-4930-BDD3-484F0A67E4D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26920" y="260280"/>
            <a:ext cx="7274160" cy="3673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68360" y="4508640"/>
            <a:ext cx="8207280" cy="125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3200" spc="-1" strike="noStrike">
                <a:solidFill>
                  <a:srgbClr val="000000"/>
                </a:solidFill>
                <a:latin typeface="Arial"/>
              </a:rPr>
              <a:t>Tienda: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 super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3200" spc="-1" strike="noStrike">
                <a:solidFill>
                  <a:srgbClr val="000000"/>
                </a:solidFill>
                <a:latin typeface="Arial"/>
                <a:ea typeface="Arial"/>
              </a:rPr>
              <a:t>Se vende: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  <a:ea typeface="Arial"/>
              </a:rPr>
              <a:t> to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02F5-393E-48B9-8878-5659231F32D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3:06:59Z</dcterms:created>
  <dc:creator>fullerc</dc:creator>
  <dc:description/>
  <dc:language>en-US</dc:language>
  <cp:lastModifiedBy>Owner1</cp:lastModifiedBy>
  <dcterms:modified xsi:type="dcterms:W3CDTF">2008-12-16T13:29:59Z</dcterms:modified>
  <cp:revision>12</cp:revision>
  <dc:subject/>
  <dc:title>Slide 1</dc:title>
</cp:coreProperties>
</file>